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3758-6EA1-4FF7-8C76-07BBD7C2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ABD6-5356-45E2-9ED5-2B7A435A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A8DD-83B5-4FFB-B6CA-BA0ABA94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04E5-6250-4652-BB4B-68A409B7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34CC-CDFE-4A85-8E19-1961D418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DDCB-E1F8-454F-8620-AA0C7A6F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8DA5-128F-4302-9DA3-41E6616C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E403-16D1-4084-9F02-6E374794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428A-3620-4D9E-8B10-FD96168A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8EBE-3E06-4013-9D77-B6EDB6DE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B082-D53A-4977-8C39-5F6AE53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D802-0E98-49C6-93C6-FE397ADC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68EE-9703-418C-BC4C-7D031FE6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2338-4B4E-402B-85E0-754FB56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B308-C836-4ACB-817E-0FC22808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A4B2-A9FE-467A-9201-63D20002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043B-C494-4115-9A1A-6E26860C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E2E2-8C4A-4DFB-A0CC-9D4B042A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AC19-377F-46AC-84C1-BF7B1A36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0D2D-5C93-4518-AF98-FDC9D50F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CBC0-58C2-4D3B-95F1-5A9BB255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97FA-F8FF-4F94-A5F5-C84E44D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59F7-6F68-457F-912E-2EAE516A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026C-FC1E-4E36-8536-906C361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16AB-2C92-46DA-8FCE-5BAB87151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C099-A187-4391-B73E-1F968533FB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76320" y="380880"/>
            <a:ext cx="518184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ef6"/>
                </a:solidFill>
                <a:latin typeface="Impact"/>
              </a:rPr>
              <a:t>Chemical Equations</a:t>
            </a:r>
            <a:endParaRPr b="0" lang="en-US" sz="9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8" descr="dert"/>
          <p:cNvPicPr/>
          <p:nvPr/>
        </p:nvPicPr>
        <p:blipFill>
          <a:blip r:embed="rId1"/>
          <a:stretch/>
        </p:blipFill>
        <p:spPr>
          <a:xfrm>
            <a:off x="5029200" y="838080"/>
            <a:ext cx="4027320" cy="5410440"/>
          </a:xfrm>
          <a:prstGeom prst="rect">
            <a:avLst/>
          </a:prstGeom>
          <a:ln w="0">
            <a:noFill/>
          </a:ln>
        </p:spPr>
      </p:pic>
      <p:sp>
        <p:nvSpPr>
          <p:cNvPr id="51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8905-949A-4EA2-A6E2-29EB148892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Balancing Equations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You need to add coefficients to balance the equation…to make sure that there are the same number of atoms of each kind on both s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" descr="coeff"/>
          <p:cNvPicPr/>
          <p:nvPr/>
        </p:nvPicPr>
        <p:blipFill>
          <a:blip r:embed="rId2"/>
          <a:stretch/>
        </p:blipFill>
        <p:spPr>
          <a:xfrm>
            <a:off x="2133720" y="2838600"/>
            <a:ext cx="5486400" cy="4019400"/>
          </a:xfrm>
          <a:prstGeom prst="rect">
            <a:avLst/>
          </a:prstGeom>
          <a:ln w="0">
            <a:noFill/>
          </a:ln>
        </p:spPr>
      </p:pic>
      <p:sp>
        <p:nvSpPr>
          <p:cNvPr id="54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AA8B-DC06-42F1-94BF-EEFFC07A56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c5~1"/>
          <p:cNvPicPr/>
          <p:nvPr/>
        </p:nvPicPr>
        <p:blipFill>
          <a:blip r:embed="rId1"/>
          <a:stretch/>
        </p:blipFill>
        <p:spPr>
          <a:xfrm>
            <a:off x="1295280" y="380880"/>
            <a:ext cx="7010640" cy="6270840"/>
          </a:xfrm>
          <a:prstGeom prst="rect">
            <a:avLst/>
          </a:prstGeom>
          <a:ln w="0">
            <a:noFill/>
          </a:ln>
        </p:spPr>
      </p:pic>
      <p:sp>
        <p:nvSpPr>
          <p:cNvPr id="54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BDD3-31F1-4941-BCD5-60601A58CE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ust indicate the state of the reactants and product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solids add (s) after the element symbol eg. F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liquids add (l), eg.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gases, add (g), eg.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substance dissolved in water 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. NaCl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F3AB-8AAE-4431-B866-0AF730258C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cap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Picture 4" descr="img002"/>
          <p:cNvPicPr/>
          <p:nvPr/>
        </p:nvPicPr>
        <p:blipFill>
          <a:blip r:embed="rId1"/>
          <a:stretch/>
        </p:blipFill>
        <p:spPr>
          <a:xfrm>
            <a:off x="838080" y="1295280"/>
            <a:ext cx="7315200" cy="4972320"/>
          </a:xfrm>
          <a:prstGeom prst="rect">
            <a:avLst/>
          </a:prstGeom>
          <a:ln w="0">
            <a:noFill/>
          </a:ln>
        </p:spPr>
      </p:pic>
      <p:sp>
        <p:nvSpPr>
          <p:cNvPr id="55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BD86-E165-4495-BEA7-F7F208CA68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l  (Skelton equ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Cl (Balanc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 + HC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kelt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 + 2HC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alanc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more examples in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4"/>
          <p:cNvSpPr/>
          <p:nvPr/>
        </p:nvSpPr>
        <p:spPr>
          <a:xfrm>
            <a:off x="2590920" y="1905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5"/>
          <p:cNvSpPr/>
          <p:nvPr/>
        </p:nvSpPr>
        <p:spPr>
          <a:xfrm>
            <a:off x="3276720" y="36576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8E2C-5801-41B1-82D7-F638D7215A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297180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1828800" y="2514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cess in which new substances with new properties are formed is called 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hemical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hemical reactions either release or absorb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xothermic vs Endothermic Reactions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xothermic rea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re reactions that release energy.  Ex: explosions and combustion of fu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ndothermic rea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re reactions that absorb energy.  Ex: cooking f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 Which type of reaction is more likely to be dangerous?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water"/>
          <p:cNvPicPr/>
          <p:nvPr/>
        </p:nvPicPr>
        <p:blipFill>
          <a:blip r:embed="rId1"/>
          <a:stretch/>
        </p:blipFill>
        <p:spPr>
          <a:xfrm>
            <a:off x="3863880" y="2286000"/>
            <a:ext cx="5280120" cy="35812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ef6"/>
                </a:solidFill>
                <a:latin typeface="Arial"/>
              </a:rPr>
              <a:t>2H</a:t>
            </a:r>
            <a:r>
              <a:rPr b="0" lang="fr-CA" sz="4400" spc="-1" strike="noStrike" baseline="-25000">
                <a:solidFill>
                  <a:srgbClr val="dfdef6"/>
                </a:solidFill>
                <a:latin typeface="Arial"/>
              </a:rPr>
              <a:t>2</a:t>
            </a:r>
            <a:r>
              <a:rPr b="0" lang="fr-CA" sz="4400" spc="-1" strike="noStrike">
                <a:solidFill>
                  <a:srgbClr val="dfdef6"/>
                </a:solidFill>
                <a:latin typeface="Arial"/>
              </a:rPr>
              <a:t> + O</a:t>
            </a:r>
            <a:r>
              <a:rPr b="0" lang="fr-CA" sz="4400" spc="-1" strike="noStrike" baseline="-25000">
                <a:solidFill>
                  <a:srgbClr val="dfdef6"/>
                </a:solidFill>
                <a:latin typeface="Arial"/>
              </a:rPr>
              <a:t>2</a:t>
            </a:r>
            <a:r>
              <a:rPr b="0" lang="fr-CA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fr-CA" sz="4400" spc="-1" strike="noStrike">
                <a:solidFill>
                  <a:srgbClr val="dfdef6"/>
                </a:solidFill>
                <a:latin typeface="Arial"/>
                <a:ea typeface="Arial"/>
              </a:rPr>
              <a:t>→ </a:t>
            </a:r>
            <a:r>
              <a:rPr b="0" lang="fr-CA" sz="4400" spc="-1" strike="noStrike">
                <a:solidFill>
                  <a:srgbClr val="dfdef6"/>
                </a:solidFill>
                <a:latin typeface="Arial"/>
              </a:rPr>
              <a:t>2H</a:t>
            </a:r>
            <a:r>
              <a:rPr b="0" lang="fr-CA" sz="4400" spc="-1" strike="noStrike" baseline="-25000">
                <a:solidFill>
                  <a:srgbClr val="dfdef6"/>
                </a:solidFill>
                <a:latin typeface="Arial"/>
              </a:rPr>
              <a:t>2</a:t>
            </a:r>
            <a:r>
              <a:rPr b="0" lang="fr-CA" sz="4400" spc="-1" strike="noStrike">
                <a:solidFill>
                  <a:srgbClr val="dfdef6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-76680" y="1600200"/>
            <a:ext cx="403884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Chemical Equation: A method of presenting the reactants and products of a reaction by showing their formu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So, in the reaction above, we can see that hyrogen reacts with oxygen to form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8479-4EDC-47AB-AD22-0F6CB4D814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ooking at chemical reaction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4" descr="reaction"/>
          <p:cNvPicPr/>
          <p:nvPr/>
        </p:nvPicPr>
        <p:blipFill>
          <a:blip r:embed="rId1"/>
          <a:stretch/>
        </p:blipFill>
        <p:spPr>
          <a:xfrm>
            <a:off x="0" y="2629080"/>
            <a:ext cx="91440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ctants and Produc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ct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he substances that undergo a chemical reaction. ( left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he new substances formed from a chemical reaction. ( right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riting Chemical Equ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can be expressed in many different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st form of a chemical equation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minative (w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</a:rPr>
              <a:t>ord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ydrogen + oxyg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sign means “ reacts wi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r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“ to produ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4419720" y="388620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2819520" y="5638680"/>
            <a:ext cx="1295280" cy="152640"/>
          </a:xfrm>
          <a:prstGeom prst="rightArrow">
            <a:avLst>
              <a:gd name="adj1" fmla="val 50000"/>
              <a:gd name="adj2" fmla="val 21214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7D80-721A-4D40-A43F-450BF5078E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minative formula however tells you nothing about the composition (formulas) of the reactants and product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better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kelton equ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HON Halogen (all these are found as diatomic molecules as ele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notice anything wrong with the equation abo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4"/>
          <p:cNvSpPr/>
          <p:nvPr/>
        </p:nvSpPr>
        <p:spPr>
          <a:xfrm>
            <a:off x="2819520" y="2666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913E-8D6C-4A9A-86B5-6ABCA42543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To find out what’s wrong…we need to consider the </a:t>
            </a:r>
            <a:r>
              <a:rPr b="0" lang="en-US" sz="3200" spc="-1" strike="noStrike" u="sng">
                <a:solidFill>
                  <a:srgbClr val="dfdef6"/>
                </a:solidFill>
                <a:uFillTx/>
                <a:latin typeface="Arial"/>
              </a:rPr>
              <a:t>Law of Conservation of Mas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 of Conservation of Mass states that the mass of the reactants in a chemical equations must equal the mass of the produc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, lets consider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hydrogen and oxygen atoms i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reacta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produ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4"/>
          <p:cNvSpPr/>
          <p:nvPr/>
        </p:nvSpPr>
        <p:spPr>
          <a:xfrm>
            <a:off x="39625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9036-728D-421F-8991-BB9531164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7:19:23Z</dcterms:created>
  <dc:creator>Systems Administrator</dc:creator>
  <dc:description/>
  <dc:language>en-US</dc:language>
  <cp:lastModifiedBy>Pacific West Staff 1</cp:lastModifiedBy>
  <dcterms:modified xsi:type="dcterms:W3CDTF">2012-01-16T18:26:44Z</dcterms:modified>
  <cp:revision>16</cp:revision>
  <dc:subject/>
  <dc:title>Les Équations Chimiques</dc:title>
</cp:coreProperties>
</file>